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6CE11-7AAE-40CB-B4C2-854837CC11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0F063-1C88-46DF-827E-C5840C3D9E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B28A3-42F2-43E0-A523-2B0ACF6F7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8961B-54BA-4FEF-A89F-B2F9AEFEA1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55AB7-0093-498A-8EDA-46FF13A890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48122-8EAA-418D-8E32-41A1A57AAC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11A6F-9A90-40B8-B76C-F4001519D3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E2044-5821-4D37-9C79-9084E1FA5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CCDBA-EA8F-48D5-A1A1-A58AAA568E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0D4B8-1AA3-4417-8D0F-47310AEA74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218F6-C128-4A4E-9F37-06D727BB5B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CFDA6-7BA8-41C2-9A3B-A0C2B36101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93AF8-7E6E-46A3-A545-6C9C01B227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A6B8-0881-4005-8695-DC277EFDD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ED00-95F7-48EF-B9A4-C86ABA66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CB45-7E95-45E6-9885-2FFBA718F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8CD8-8DCA-4879-9957-3235445F9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7302-C841-495A-8467-275D49405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ED87-73A2-4F6D-91E9-D69366D1F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8D074-2842-4199-9C25-6FE43FDA1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C855-201A-4C9C-BD43-D606D38BD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B7DF-BAA3-4541-A0DA-4A16D14E4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08FB2-6CC0-4731-8967-D728ECA87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1431-60C0-4A8A-A8E4-86140D5F6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9C4A-5146-4F52-B37E-66C71848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EAFD6-E95D-4F63-890D-4F543437FB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wikia.com/risk/images/a/a7/8Dice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ages.wikia.com/risk/images/a/a7/8Dice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2.4 Probability of Compound Ev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42720" y="366840"/>
            <a:ext cx="617220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0" y="121896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two six-sided die are tossed, there are 36 outcom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nd the probability the sum is NOT 8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2"/>
          <p:cNvSpPr/>
          <p:nvPr/>
        </p:nvSpPr>
        <p:spPr>
          <a:xfrm>
            <a:off x="-1800" y="4952880"/>
            <a:ext cx="61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(sum is not 8) = 1-(sum is eigh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3"/>
          <p:cNvSpPr/>
          <p:nvPr/>
        </p:nvSpPr>
        <p:spPr>
          <a:xfrm>
            <a:off x="-360" y="5867280"/>
            <a:ext cx="452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(sum is not 8) = 1-5/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4"/>
          <p:cNvSpPr/>
          <p:nvPr/>
        </p:nvSpPr>
        <p:spPr>
          <a:xfrm>
            <a:off x="-360" y="6705720"/>
            <a:ext cx="540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(sum is not 8) = 31/36≈.86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304776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61722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m is greater than or equal to 4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(sum</a:t>
            </a:r>
            <a:r>
              <a:rPr b="0" lang="en-US" sz="3200" spc="-1" strike="noStrike">
                <a:solidFill>
                  <a:srgbClr val="000000"/>
                </a:solidFill>
                <a:latin typeface="Malgun Gothic"/>
                <a:ea typeface="Malgun Gothic"/>
              </a:rPr>
              <a:t>≥4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 = 1-(P(sum&lt;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1- 3/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33/36=11/12 ≈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0.9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sign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. 727#42-45 Show ALL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ither write the question or identify the given information using the format of the examp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tually Exclusive Ev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96960" y="3782160"/>
            <a:ext cx="2263680" cy="2442600"/>
          </a:xfrm>
          <a:prstGeom prst="rect">
            <a:avLst/>
          </a:prstGeom>
          <a:solidFill>
            <a:srgbClr val="99cc00"/>
          </a:solidFill>
          <a:ln w="19080">
            <a:solidFill>
              <a:srgbClr val="000000"/>
            </a:solidFill>
            <a:round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5"/>
          <p:cNvSpPr/>
          <p:nvPr/>
        </p:nvSpPr>
        <p:spPr>
          <a:xfrm>
            <a:off x="3505320" y="3429000"/>
            <a:ext cx="3085920" cy="3251160"/>
          </a:xfrm>
          <a:prstGeom prst="ellipse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6"/>
          <p:cNvGrpSpPr/>
          <p:nvPr/>
        </p:nvGrpSpPr>
        <p:grpSpPr>
          <a:xfrm>
            <a:off x="4343400" y="4267080"/>
            <a:ext cx="1510920" cy="1544040"/>
            <a:chOff x="4343400" y="4267080"/>
            <a:chExt cx="1510920" cy="1544040"/>
          </a:xfrm>
        </p:grpSpPr>
        <p:sp>
          <p:nvSpPr>
            <p:cNvPr id="53" name="Oval 7"/>
            <p:cNvSpPr/>
            <p:nvPr/>
          </p:nvSpPr>
          <p:spPr>
            <a:xfrm>
              <a:off x="5167440" y="4385880"/>
              <a:ext cx="68760" cy="11880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Oval 8"/>
            <p:cNvSpPr/>
            <p:nvPr/>
          </p:nvSpPr>
          <p:spPr>
            <a:xfrm>
              <a:off x="5236200" y="5098680"/>
              <a:ext cx="68760" cy="11880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Oval 9"/>
            <p:cNvSpPr/>
            <p:nvPr/>
          </p:nvSpPr>
          <p:spPr>
            <a:xfrm>
              <a:off x="5511240" y="4505040"/>
              <a:ext cx="68400" cy="1180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Oval 10"/>
            <p:cNvSpPr/>
            <p:nvPr/>
          </p:nvSpPr>
          <p:spPr>
            <a:xfrm>
              <a:off x="5785560" y="5217480"/>
              <a:ext cx="68760" cy="1180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11"/>
            <p:cNvSpPr/>
            <p:nvPr/>
          </p:nvSpPr>
          <p:spPr>
            <a:xfrm>
              <a:off x="4686840" y="5692320"/>
              <a:ext cx="68400" cy="11880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Oval 12"/>
            <p:cNvSpPr/>
            <p:nvPr/>
          </p:nvSpPr>
          <p:spPr>
            <a:xfrm>
              <a:off x="4412160" y="4742280"/>
              <a:ext cx="68760" cy="11880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Oval 13"/>
            <p:cNvSpPr/>
            <p:nvPr/>
          </p:nvSpPr>
          <p:spPr>
            <a:xfrm>
              <a:off x="4343400" y="4267080"/>
              <a:ext cx="68760" cy="11880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Oval 14"/>
            <p:cNvSpPr/>
            <p:nvPr/>
          </p:nvSpPr>
          <p:spPr>
            <a:xfrm>
              <a:off x="4755240" y="4861440"/>
              <a:ext cx="68760" cy="1180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Oval 15"/>
            <p:cNvSpPr/>
            <p:nvPr/>
          </p:nvSpPr>
          <p:spPr>
            <a:xfrm>
              <a:off x="5236200" y="5692320"/>
              <a:ext cx="68760" cy="11880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16"/>
          <p:cNvGrpSpPr/>
          <p:nvPr/>
        </p:nvGrpSpPr>
        <p:grpSpPr>
          <a:xfrm>
            <a:off x="1028880" y="4267080"/>
            <a:ext cx="1510920" cy="1544040"/>
            <a:chOff x="1028880" y="4267080"/>
            <a:chExt cx="1510920" cy="1544040"/>
          </a:xfrm>
        </p:grpSpPr>
        <p:sp>
          <p:nvSpPr>
            <p:cNvPr id="63" name="Oval 17"/>
            <p:cNvSpPr/>
            <p:nvPr/>
          </p:nvSpPr>
          <p:spPr>
            <a:xfrm>
              <a:off x="1852920" y="4385880"/>
              <a:ext cx="68760" cy="11880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Oval 18"/>
            <p:cNvSpPr/>
            <p:nvPr/>
          </p:nvSpPr>
          <p:spPr>
            <a:xfrm>
              <a:off x="1921680" y="5098680"/>
              <a:ext cx="68760" cy="11880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Oval 19"/>
            <p:cNvSpPr/>
            <p:nvPr/>
          </p:nvSpPr>
          <p:spPr>
            <a:xfrm>
              <a:off x="2196720" y="4505040"/>
              <a:ext cx="68400" cy="1180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Oval 20"/>
            <p:cNvSpPr/>
            <p:nvPr/>
          </p:nvSpPr>
          <p:spPr>
            <a:xfrm>
              <a:off x="2471040" y="5217480"/>
              <a:ext cx="68760" cy="1180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Oval 21"/>
            <p:cNvSpPr/>
            <p:nvPr/>
          </p:nvSpPr>
          <p:spPr>
            <a:xfrm>
              <a:off x="1372320" y="5692320"/>
              <a:ext cx="68400" cy="11880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Oval 22"/>
            <p:cNvSpPr/>
            <p:nvPr/>
          </p:nvSpPr>
          <p:spPr>
            <a:xfrm>
              <a:off x="1097640" y="4742280"/>
              <a:ext cx="68760" cy="11880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Oval 23"/>
            <p:cNvSpPr/>
            <p:nvPr/>
          </p:nvSpPr>
          <p:spPr>
            <a:xfrm>
              <a:off x="1028880" y="4267080"/>
              <a:ext cx="68760" cy="11880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24"/>
            <p:cNvSpPr/>
            <p:nvPr/>
          </p:nvSpPr>
          <p:spPr>
            <a:xfrm>
              <a:off x="1440720" y="4861440"/>
              <a:ext cx="68760" cy="1180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25"/>
            <p:cNvSpPr/>
            <p:nvPr/>
          </p:nvSpPr>
          <p:spPr>
            <a:xfrm>
              <a:off x="1921680" y="5692320"/>
              <a:ext cx="68760" cy="11880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section of A &amp; 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24"/>
          <p:cNvSpPr/>
          <p:nvPr/>
        </p:nvSpPr>
        <p:spPr>
          <a:xfrm>
            <a:off x="914400" y="2971800"/>
            <a:ext cx="3143160" cy="3860640"/>
          </a:xfrm>
          <a:prstGeom prst="ellipse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36"/>
          <p:cNvGrpSpPr/>
          <p:nvPr/>
        </p:nvGrpSpPr>
        <p:grpSpPr>
          <a:xfrm>
            <a:off x="1371600" y="4064040"/>
            <a:ext cx="1510920" cy="1544040"/>
            <a:chOff x="1371600" y="4064040"/>
            <a:chExt cx="1510920" cy="1544040"/>
          </a:xfrm>
        </p:grpSpPr>
        <p:sp>
          <p:nvSpPr>
            <p:cNvPr id="75" name="Oval 37"/>
            <p:cNvSpPr/>
            <p:nvPr/>
          </p:nvSpPr>
          <p:spPr>
            <a:xfrm>
              <a:off x="2195640" y="4182840"/>
              <a:ext cx="68760" cy="11880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38"/>
            <p:cNvSpPr/>
            <p:nvPr/>
          </p:nvSpPr>
          <p:spPr>
            <a:xfrm>
              <a:off x="2264400" y="4895640"/>
              <a:ext cx="68760" cy="11880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39"/>
            <p:cNvSpPr/>
            <p:nvPr/>
          </p:nvSpPr>
          <p:spPr>
            <a:xfrm>
              <a:off x="2539440" y="4302000"/>
              <a:ext cx="68400" cy="1180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40"/>
            <p:cNvSpPr/>
            <p:nvPr/>
          </p:nvSpPr>
          <p:spPr>
            <a:xfrm>
              <a:off x="2813760" y="5014440"/>
              <a:ext cx="68760" cy="1180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41"/>
            <p:cNvSpPr/>
            <p:nvPr/>
          </p:nvSpPr>
          <p:spPr>
            <a:xfrm>
              <a:off x="1715040" y="5489280"/>
              <a:ext cx="68400" cy="11880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42"/>
            <p:cNvSpPr/>
            <p:nvPr/>
          </p:nvSpPr>
          <p:spPr>
            <a:xfrm>
              <a:off x="1440360" y="4539240"/>
              <a:ext cx="68760" cy="11880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43"/>
            <p:cNvSpPr/>
            <p:nvPr/>
          </p:nvSpPr>
          <p:spPr>
            <a:xfrm>
              <a:off x="1371600" y="4064040"/>
              <a:ext cx="68760" cy="11880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44"/>
            <p:cNvSpPr/>
            <p:nvPr/>
          </p:nvSpPr>
          <p:spPr>
            <a:xfrm>
              <a:off x="1783440" y="4658400"/>
              <a:ext cx="68760" cy="1180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45"/>
            <p:cNvSpPr/>
            <p:nvPr/>
          </p:nvSpPr>
          <p:spPr>
            <a:xfrm>
              <a:off x="2264400" y="5489280"/>
              <a:ext cx="68760" cy="11880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Oval 46"/>
          <p:cNvSpPr/>
          <p:nvPr/>
        </p:nvSpPr>
        <p:spPr>
          <a:xfrm>
            <a:off x="3124080" y="3048120"/>
            <a:ext cx="3143520" cy="3860640"/>
          </a:xfrm>
          <a:prstGeom prst="ellipse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47"/>
          <p:cNvGrpSpPr/>
          <p:nvPr/>
        </p:nvGrpSpPr>
        <p:grpSpPr>
          <a:xfrm>
            <a:off x="4229280" y="4165560"/>
            <a:ext cx="1510920" cy="1544040"/>
            <a:chOff x="4229280" y="4165560"/>
            <a:chExt cx="1510920" cy="1544040"/>
          </a:xfrm>
        </p:grpSpPr>
        <p:sp>
          <p:nvSpPr>
            <p:cNvPr id="86" name="Oval 48"/>
            <p:cNvSpPr/>
            <p:nvPr/>
          </p:nvSpPr>
          <p:spPr>
            <a:xfrm>
              <a:off x="5053320" y="4284360"/>
              <a:ext cx="68760" cy="11880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49"/>
            <p:cNvSpPr/>
            <p:nvPr/>
          </p:nvSpPr>
          <p:spPr>
            <a:xfrm>
              <a:off x="5122080" y="4997160"/>
              <a:ext cx="68760" cy="11880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50"/>
            <p:cNvSpPr/>
            <p:nvPr/>
          </p:nvSpPr>
          <p:spPr>
            <a:xfrm>
              <a:off x="5397120" y="4403520"/>
              <a:ext cx="68400" cy="1180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51"/>
            <p:cNvSpPr/>
            <p:nvPr/>
          </p:nvSpPr>
          <p:spPr>
            <a:xfrm>
              <a:off x="5671440" y="5115960"/>
              <a:ext cx="68760" cy="1180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52"/>
            <p:cNvSpPr/>
            <p:nvPr/>
          </p:nvSpPr>
          <p:spPr>
            <a:xfrm>
              <a:off x="4572720" y="5590800"/>
              <a:ext cx="68400" cy="11880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53"/>
            <p:cNvSpPr/>
            <p:nvPr/>
          </p:nvSpPr>
          <p:spPr>
            <a:xfrm>
              <a:off x="4298040" y="4640760"/>
              <a:ext cx="68760" cy="11880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54"/>
            <p:cNvSpPr/>
            <p:nvPr/>
          </p:nvSpPr>
          <p:spPr>
            <a:xfrm>
              <a:off x="4229280" y="4165560"/>
              <a:ext cx="68760" cy="11880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55"/>
            <p:cNvSpPr/>
            <p:nvPr/>
          </p:nvSpPr>
          <p:spPr>
            <a:xfrm>
              <a:off x="4641120" y="4759920"/>
              <a:ext cx="68760" cy="11808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56"/>
            <p:cNvSpPr/>
            <p:nvPr/>
          </p:nvSpPr>
          <p:spPr>
            <a:xfrm>
              <a:off x="5122080" y="5590800"/>
              <a:ext cx="68760" cy="118800"/>
            </a:xfrm>
            <a:prstGeom prst="ellipse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440" bIns="37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57"/>
          <p:cNvGrpSpPr/>
          <p:nvPr/>
        </p:nvGrpSpPr>
        <p:grpSpPr>
          <a:xfrm>
            <a:off x="3200400" y="4343400"/>
            <a:ext cx="688680" cy="957960"/>
            <a:chOff x="3200400" y="4343400"/>
            <a:chExt cx="688680" cy="957960"/>
          </a:xfrm>
        </p:grpSpPr>
        <p:sp>
          <p:nvSpPr>
            <p:cNvPr id="96" name="Oval 58"/>
            <p:cNvSpPr/>
            <p:nvPr/>
          </p:nvSpPr>
          <p:spPr>
            <a:xfrm>
              <a:off x="3200400" y="4343400"/>
              <a:ext cx="68760" cy="119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59"/>
            <p:cNvSpPr/>
            <p:nvPr/>
          </p:nvSpPr>
          <p:spPr>
            <a:xfrm>
              <a:off x="3269160" y="5062320"/>
              <a:ext cx="68760" cy="1198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60"/>
            <p:cNvSpPr/>
            <p:nvPr/>
          </p:nvSpPr>
          <p:spPr>
            <a:xfrm>
              <a:off x="3544920" y="4463280"/>
              <a:ext cx="68400" cy="119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61"/>
            <p:cNvSpPr/>
            <p:nvPr/>
          </p:nvSpPr>
          <p:spPr>
            <a:xfrm>
              <a:off x="3820320" y="5182200"/>
              <a:ext cx="68760" cy="1191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7800" bIns="37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42720" y="0"/>
            <a:ext cx="6172200" cy="723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(A or B) you must consider what outcomes, if any, are in the intersection of A and B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there are none, then A and B ar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utually exclusive ev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P(A or B) = P(A)+P(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A and B are not mutually exclusive, then the outcomes in the intersection or A &amp; B are counted twice when P(A) &amp; P(B) are ad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P(A &amp; B) must be subtracted once from the s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61722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XAMPLE 1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42720" y="3555720"/>
            <a:ext cx="6172200" cy="35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eight-sided die is roll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the probability of rolling 2 or 7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=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=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(A or B) = P(A) + P(B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 1/8 + 1/8 = 2/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0.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9" descr="76px-8Dic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38280" y="1371600"/>
            <a:ext cx="205740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42720" y="366840"/>
            <a:ext cx="6172200" cy="8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4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eight-sided die is rolled. What is the probability of rolling a multiple of 3 or a multiple of 2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= 3, 6 = 2 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= 2, 4, 6, 8 = 4 outc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(A or B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= P(A) + P(B) – P(A&amp;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(A or B) = 2/8 + 4/8 – 1/8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/8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.6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39" descr="76px-8Dic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1295280"/>
            <a:ext cx="1447920" cy="143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EXAMPLE 3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560" y="1294920"/>
            <a:ext cx="61722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200 athletes, 122 students were honored at an academic awards banquet, 48 won awards for mathematics and 78 for Englis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probability that an athlete won both award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382680" y="4648320"/>
            <a:ext cx="385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=Mat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=Engl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-1440" y="5410080"/>
            <a:ext cx="627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(M or E)=P(M)+P(E)-P(M and 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0" y="7010280"/>
            <a:ext cx="68580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P(M and E) =48/200+78/200-122/20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0" y="6172200"/>
            <a:ext cx="679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2/200=48/200+78/200-P(M and 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8"/>
          <p:cNvSpPr/>
          <p:nvPr/>
        </p:nvSpPr>
        <p:spPr>
          <a:xfrm>
            <a:off x="720" y="7772400"/>
            <a:ext cx="4402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(M and E) =4/200=.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ing complements to find Probabil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42720" y="2946240"/>
            <a:ext cx="6172200" cy="52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event A’, called t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complemen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event A, consists of all outcomes that are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otation A’ is read ‘A prime’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obability of the complement of an ev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robability of the complement of A is 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(A’) = 1 - P(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8T00:37:49Z</dcterms:created>
  <dc:creator>Meriam P Freeman</dc:creator>
  <dc:description/>
  <dc:language>en-US</dc:language>
  <cp:lastModifiedBy>sraja</cp:lastModifiedBy>
  <dcterms:modified xsi:type="dcterms:W3CDTF">2011-05-12T11:53:22Z</dcterms:modified>
  <cp:revision>9</cp:revision>
  <dc:subject/>
  <dc:title>12.4 Probability of Compound Events</dc:title>
</cp:coreProperties>
</file>